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5160" y="247644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65160" y="5384880"/>
            <a:ext cx="1107432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65160" y="1320480"/>
            <a:ext cx="11074320" cy="71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6576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72000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11996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51992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028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5160" y="341640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1440" y="6716880"/>
            <a:ext cx="11712600" cy="6858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65160" y="6477120"/>
            <a:ext cx="1107432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65160" y="8292600"/>
            <a:ext cx="110743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65160" y="247644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Violence Against Women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65160" y="5384880"/>
            <a:ext cx="1107432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By Yongmin and Jihyung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usband to Wife violence</a:t>
            </a: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2743200" y="3263760"/>
            <a:ext cx="7518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Violence in korea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65160" y="24253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re also are parent to children, children to adult situation, but mostly violence against women occur between intimate couples. 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husband violence to wife increases the number of Korean women with depression. 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ate of Depression </a:t>
            </a: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2095560" y="3009960"/>
            <a:ext cx="8534520" cy="51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Solutions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Destroy the connection between MASCULINITY and VIOLENCE.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8510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educational programs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8510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raise public awareness through mass media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4495680" y="2832120"/>
            <a:ext cx="3810240" cy="57150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32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The Gender Inequality of Violence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65160" y="397476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emales are much more likely to be victims of males, not the other way around.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ec"/>
                </a:solidFill>
                <a:latin typeface="Gill Sans"/>
              </a:rPr>
              <a:t>Common Types of Violence against Women</a:t>
            </a:r>
            <a:endParaRPr b="0" lang="en-US" sz="48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398160" indent="-3981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bcd9c"/>
                </a:solidFill>
                <a:latin typeface="Gill Sans"/>
              </a:rPr>
              <a:t>Forcible Rape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833760" indent="-3981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21 out of 10,000 women over the age of 12 are raped every year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833760" indent="-3981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only one third of the victims report to the police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833760" indent="-3981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Most rape criminals knew the victim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833760" indent="-3981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Decline in rape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ec"/>
                </a:solidFill>
                <a:latin typeface="Gill Sans"/>
              </a:rPr>
              <a:t>Common Types of Violence against Women</a:t>
            </a:r>
            <a:endParaRPr b="0" lang="en-US" sz="48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bcd9c"/>
                </a:solidFill>
                <a:latin typeface="Gill Sans"/>
              </a:rPr>
              <a:t>Date Rape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8510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“</a:t>
            </a: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acquaintance rape”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8510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unwanted, forced sex by an acquaintance(boyfriend, friend, etc.)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8510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Problem, because victims feel responsibility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8510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Use of drugs to facilitate rape 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901800" y="673200"/>
            <a:ext cx="5308560" cy="3543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8048520" y="1409760"/>
            <a:ext cx="3635640" cy="20700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4"/>
          <a:stretch/>
        </p:blipFill>
        <p:spPr>
          <a:xfrm>
            <a:off x="4444920" y="4584600"/>
            <a:ext cx="457200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ec"/>
                </a:solidFill>
                <a:latin typeface="Gill Sans"/>
              </a:rPr>
              <a:t>Common Types of Violence against Women</a:t>
            </a:r>
            <a:endParaRPr b="0" lang="en-US" sz="48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bcd9c"/>
                </a:solidFill>
                <a:latin typeface="Gill Sans"/>
              </a:rPr>
              <a:t>Violence in the home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8510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amily violence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29528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marital rape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29528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pouse battering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29528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inces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4559400" y="2247840"/>
            <a:ext cx="3105000" cy="2070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domestic violence against women in india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63640" y="349200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37.2% of married Indian women regularly experience spouse battering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“</a:t>
            </a: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martyr” of marriage, accepting of their destiny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ear of losing economic support and shelter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more severe in rural areas with high iliteracy rates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ec"/>
                </a:solidFill>
                <a:latin typeface="Gill Sans"/>
              </a:rPr>
              <a:t>Common Types of Violence against Women</a:t>
            </a:r>
            <a:endParaRPr b="0" lang="en-US" sz="48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bcd9c"/>
                </a:solidFill>
                <a:latin typeface="Gill Sans"/>
              </a:rPr>
              <a:t>Murder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8510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Men are more likely to be murderers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8510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When women are murdered, 9 out of 10 cases the killer is a male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7124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In Korea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olence against women in Korea mostly occurs between those who are married. 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re are many different types of violence against the married women: physically, mentally, and sexually. 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4429080" y="1905120"/>
            <a:ext cx="43466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